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632D-EB8A-4D11-9683-BE4715ADF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5C6A-6157-48B2-A481-C7C0E613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F58F-13B9-454A-B1A9-EB8E0D3C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A6CD-48CE-4193-B180-C5501FB3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7A57-2894-4567-86EA-1BD75D99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1ED1-EB43-4CE4-B67D-CAF0BB0E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47C6-FB2D-4F1A-A3DA-8AB25E85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4BE5-9326-473C-BEA4-B8ADDD38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62C4-6594-451A-8551-626C4853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C1FD-8CD1-4FB2-896D-AE34E2FD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C223-94A8-41EB-BAFD-BE0F424E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A8FA-F054-47BB-8DC8-F55FD21D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E679-E80E-47BA-A705-8B7D27141E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verbe « AVOIR 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To H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What are the 6 Subject Pronou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/El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No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Vo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s/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You must conjugate verb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Grammar Words to Kno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Infinitive- the unconjugated verb (to hav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Conjugate- I have, you have, he/she ha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YOU DON’T SAY  I to have or You to ha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avoir | to hav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his very important verb is irregula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What does it mean to be an irregular verb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An irregular verb is one that doesn’t follow the normal rules of conjug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t’s conjugate our first verb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00b050"/>
                </a:solidFill>
                <a:latin typeface="Calibri"/>
              </a:rPr>
              <a:t>ai </a:t>
            </a:r>
            <a:r>
              <a:rPr b="1" lang="fr-FR" sz="32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1" lang="fr-FR" sz="3200" spc="-1" strike="noStrike">
                <a:solidFill>
                  <a:srgbClr val="00b050"/>
                </a:solidFill>
                <a:latin typeface="Calibri"/>
              </a:rPr>
              <a:t> J’ai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Nous </a:t>
            </a:r>
            <a:r>
              <a:rPr b="1" lang="fr-FR" sz="3200" spc="-1" strike="noStrike">
                <a:solidFill>
                  <a:srgbClr val="00b050"/>
                </a:solidFill>
                <a:latin typeface="Calibri"/>
              </a:rPr>
              <a:t>av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u </a:t>
            </a:r>
            <a:r>
              <a:rPr b="1" lang="fr-FR" sz="3200" spc="-1" strike="noStrike">
                <a:solidFill>
                  <a:srgbClr val="00b050"/>
                </a:solidFill>
                <a:latin typeface="Calibri"/>
              </a:rPr>
              <a:t>as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Vous </a:t>
            </a:r>
            <a:r>
              <a:rPr b="1" lang="fr-FR" sz="3200" spc="-1" strike="noStrike">
                <a:solidFill>
                  <a:srgbClr val="00b050"/>
                </a:solidFill>
                <a:latin typeface="Calibri"/>
              </a:rPr>
              <a:t>ave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Il/elle </a:t>
            </a:r>
            <a:r>
              <a:rPr b="1" lang="fr-FR" sz="3200" spc="-1" strike="noStrike">
                <a:solidFill>
                  <a:srgbClr val="00b050"/>
                </a:solidFill>
                <a:latin typeface="Calibri"/>
              </a:rPr>
              <a:t>a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Ils/Elles </a:t>
            </a:r>
            <a:r>
              <a:rPr b="1" lang="fr-FR" sz="3200" spc="-1" strike="noStrike">
                <a:solidFill>
                  <a:srgbClr val="00b050"/>
                </a:solidFill>
                <a:latin typeface="Calibri"/>
              </a:rPr>
              <a:t>o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b050"/>
                </a:solidFill>
                <a:latin typeface="Calibri"/>
              </a:rPr>
              <a:t>LIA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AVOIR SO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Group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Je/J’________ (avoir) une gomm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Nous _______ (avoir) des livr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Elles ________ (avoir) treize a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Tu __________ (avoir) un ordinateur et un stylo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Il ___________ (avoir) douze cray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Vous ________ (avoir) une feuille de papie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17:36:31Z</dcterms:created>
  <dc:creator>Robbie</dc:creator>
  <dc:description/>
  <dc:language>en-US</dc:language>
  <cp:lastModifiedBy>Robbie</cp:lastModifiedBy>
  <dcterms:modified xsi:type="dcterms:W3CDTF">2012-09-09T17:55:19Z</dcterms:modified>
  <cp:revision>1</cp:revision>
  <dc:subject/>
  <dc:title>Le verbe « AVOIR » </dc:title>
</cp:coreProperties>
</file>